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45D-458D-4998-94F8-15F6E7FC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723-BC59-4E6E-9DFB-70E800D2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A1C-09A1-4ACB-BD4E-DADFB2A3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D59-CC19-4F82-86D7-EB9DFBA5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621-1C32-4EFC-9762-FEA78B61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613-49AD-4406-86CC-960F482A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CD9-2EDE-49A6-938B-A87DE3A9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15E-C7AF-42FC-9F16-C18A89BC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5D8-A9DC-4723-9F1B-13C78B1C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8CB-15A1-4CA4-A95E-068C76D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B75-8E61-48B6-AEED-E7DB5F9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B7D-9397-4BB6-9061-F3731A82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FC1F-1C04-4584-979F-55B81D76A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80;&#1103;" TargetMode="External"/><Relationship Id="rId2" Type="http://schemas.openxmlformats.org/officeDocument/2006/relationships/hyperlink" Target="http://ru.wikipedia.org/wiki/&#1052;&#1086;&#1076;&#1077;&#1083;&#1100;&#1077;&#1088;" TargetMode="External"/><Relationship Id="rId3" Type="http://schemas.openxmlformats.org/officeDocument/2006/relationships/hyperlink" Target="http://ru.wikipedia.org/wiki/&#1059;&#1085;&#1080;&#1089;&#1077;&#1082;&#1089;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99;" TargetMode="External"/><Relationship Id="rId2" Type="http://schemas.openxmlformats.org/officeDocument/2006/relationships/hyperlink" Target="http://ru.wikipedia.org/wiki/&#1052;&#1086;&#1076;&#1072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atangChe"/>
              </a:rPr>
              <a:t>Величайшие модел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хмедова Валерия, 31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одельер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 — это творец. Умение сделать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эскиз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 предложить интересные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етали одежд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аксессуаров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которых не было раньше – основа его работы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еличайшие модельер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ьер Карде́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—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анцуз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дель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ервопроходец стиля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унисек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здал первую коллекцию мужской одежды. Запатентовал более 500 изобретений (цветные чулки и высокие сапоги, мини-сарафаны, фривольные галстуки «в цветочек», длинные пиджаки без воротника и узкие брюки на пуговицах). Первый занялся джинсовой одеждой для молодёжи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88000" y="4194000"/>
            <a:ext cx="181152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ко Шане́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—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анцуз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модельер, самая важная фигура в истории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XX столетия. Шанель принесла в женскую моду приталенный жакет и маленькое чёрное плат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96000" y="3213000"/>
            <a:ext cx="2308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гаро Эммануэ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модельер, для которого ключевым словом творчества и жизни являе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независи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 «Мои вещи заставляют женщину чувствовать себя свободной» - заявляет создатель одного из самых знаменитых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тулованных Домов моды Фран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2031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мамото Йоши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ер, родившийся в Токи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традиции, используемые и в женских коллекциях: костюмы и рубашки 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симметричными рукав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имоно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ротник отсутств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с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дели больших разме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этому их могут носить почти все. Доминирующи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вет у Йоши — черны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1851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828720" y="1628280"/>
            <a:ext cx="568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53:33Z</dcterms:created>
  <dc:creator>Валерия</dc:creator>
  <dc:description/>
  <dc:language>en-US</dc:language>
  <cp:lastModifiedBy>Валерия</cp:lastModifiedBy>
  <dcterms:modified xsi:type="dcterms:W3CDTF">2011-12-10T18:21:49Z</dcterms:modified>
  <cp:revision>5</cp:revision>
  <dc:subject/>
  <dc:title>Величайшие модельеры</dc:title>
</cp:coreProperties>
</file>